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616-6B38-4110-ABC5-49EC13BC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1CEB-C093-491B-B57E-4DFAC77F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158D-B1ED-4D6E-8645-546B03EC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1EE-930F-4D0D-AFDE-919F3E11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EC5E-7510-414F-ADCB-26132D06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F846-48AD-4CDA-A47D-F9038198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BD94-A843-47EF-81E1-E3DA96F0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A78B-7505-497D-AF82-5015FFA7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971D-B529-4F82-8087-B9FB6D30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3E28-20E8-4673-A055-10F8206C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C99A-3EEE-4CB9-AB6D-1A16A0AD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37A-328F-453A-A663-CC82D58F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7707-7E2C-4AB3-8E57-FDC3DE2D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B1EC-3C59-46B4-A295-465FD474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7AB3-6770-4EC7-9145-C03B1501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8301-5A90-4F7D-8C4A-59EF7AD4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4F7B-F800-4869-BEA6-13760D4F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B49-DFFB-4F7B-B4CF-764AF2EE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2CFC-F80B-41D5-A6D8-CD3B72ED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C982-09CF-4C41-84C8-3C4C19F1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A1F-F490-4D92-B3B4-0084235A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18C-979A-4A15-A50B-92F1E8E3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CEB-0C6F-44B1-8721-F97C96BD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2D50-1E6D-43A3-9157-B09C6B4F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064D-0036-4F60-8F21-1D19CAF348E6}" type="slidenum">
              <a:rPr b="0" lang="en-US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9B27-5559-40C8-82A3-170CAC0C6189}" type="slidenum">
              <a:rPr b="0" lang="en-US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www.ucalgary.ca/honesty/" TargetMode="External"/><Relationship Id="rId4" Type="http://schemas.openxmlformats.org/officeDocument/2006/relationships/hyperlink" Target="http://www.ucalgary.ca/pubs/calendar/2007/how/How_LB.ht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1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1841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49080" y="3809520"/>
            <a:ext cx="6032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hreya Raw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ail: srawal@ucalgary.c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All the work you submit must be original, and developed by you. If in doubt, check the U of C's honesty policy: </a:t>
            </a:r>
            <a:r>
              <a:rPr b="0" lang="en-GB" sz="2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ucalgary.ca/honesty/</a:t>
            </a: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 and check with your TA. Also be aware of U of C's definitions of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</a:rPr>
              <a:t>Plagiarism/Cheating/Other Academic Misconduct</a:t>
            </a: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 and the penalties and procedures associated with incidents of Plagiarism/Cheating/Other Academic Misconduct: </a:t>
            </a:r>
            <a:r>
              <a:rPr b="0" lang="en-GB" sz="24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www.ucalgary.ca/pubs/calendar/2007/how/How_LB.htm</a:t>
            </a: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2"/>
          <a:stretch/>
        </p:blipFill>
        <p:spPr>
          <a:xfrm>
            <a:off x="682560" y="146160"/>
            <a:ext cx="6881760" cy="2359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4400" spc="-1" strike="noStrike">
                <a:solidFill>
                  <a:srgbClr val="c9c2d1"/>
                </a:solidFill>
                <a:latin typeface="Book Antiqua"/>
              </a:rPr>
              <a:t>Deadline: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9c2d1"/>
                </a:solidFill>
                <a:latin typeface="Book Antiqua"/>
              </a:rPr>
              <a:t>February 23</a:t>
            </a:r>
            <a:r>
              <a:rPr b="0" lang="en-GB" sz="2800" spc="-1" strike="noStrike" baseline="30000">
                <a:solidFill>
                  <a:srgbClr val="c9c2d1"/>
                </a:solidFill>
                <a:latin typeface="Book Antiqua"/>
              </a:rPr>
              <a:t>rd</a:t>
            </a:r>
            <a:r>
              <a:rPr b="0" lang="en-GB" sz="2800" spc="-1" strike="noStrike">
                <a:solidFill>
                  <a:srgbClr val="c9c2d1"/>
                </a:solidFill>
                <a:latin typeface="Book Antiqua"/>
              </a:rPr>
              <a:t> 2009, 11:59 pm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To create a dashboard in Excel that summarizes the complex statistical data collect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Use file: ClassSurvey-Jalal.x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1. To practice good spreadsheet design principles as given in the class lecture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2. To introduce you to a realistic data analysis exercise using spreadsheet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3. To allow you to design an information dashboard summarizing a large number of fields into a few informative char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ill in the following tabs: Introduction, Model, Data Dictionary. The model tab must include a rationale for the calculated fields you create, summary statistics, and dashboard design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dd to the Data Tab: New calculated fields and new summary statistics calculations. For top marks you must create a new calculated field using either an “If” or a “Lookup” function. Make sure it is clear what is “Raw Data”, what are “Calculated Variables” and what are “Summary Calculations”.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dd to the Dashboard tab: 3 charts you have designed to summarize the data with appropriate titles, legends, and annotations. Include on the Dashboard tab a section where in a few sentences you interpret each chart. Make your information dashboard as clear, concise, and informative as possible, using good visual design principles.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formation Dashboard Design by Stephen Few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sual Display of Qualitative Information by Edward Tuft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elements of Graphing Data by William Cleveland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This assignment is worth 8% of your final grade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    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Grading: 100 Points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Introduction, Model and Data Dictionary Tabs –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30 points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Design and Clarity of the Data and Dashboard tabs –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30 points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Accuracy of all calculations –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20 points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Originality –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10 points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Comprehensiveness –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10 poin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Note – by “comprehensiveness” what is meant is designing the dashboard so it reflects as much of the raw data as possible in a few clear and informative chart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Book Antiqua"/>
              </a:rPr>
              <a:t>Name the assignment file: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Assign1_LastName_FirstName_StudentID.xl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You may use Excel, Open Office Spreadsheet, or Google Spreadsheet &amp; Docs – but must submit an .xls fil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reya Rawal</cp:lastModifiedBy>
  <dcterms:modified xsi:type="dcterms:W3CDTF">2009-01-26T17:16:1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